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023-4BAA-4365-A2C2-8ACB7AF2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7B5-3F85-4F2D-BDD7-27A489D6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243-2396-42EA-B98F-1339FBEB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AFF-AE80-41C5-B265-F8A90E7A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227-EA24-43D8-8B85-EDEF284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4CF-F4F2-471E-AD71-14E4C103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728-178E-4B77-9AB2-856F1BAB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B5C-EB75-4DA0-A131-FBBB3DA9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EF6-1879-4B11-B7EC-C57185E7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41B-E184-41FA-AB03-B759124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FB4-21E9-4D51-8BF5-786B6775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593-9D3C-49DD-ACDB-387F1CCF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702-C7F6-48A8-A868-2339A2DD2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ignment of CSC Shadow Price Caps with New System-wide Offer Cap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M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C shadow price cap of $2,500/MW implemented via SCR 747 on 12/07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$2,500/MW shadow price cap was developed based on an offer cap of $1,000/MWh and an offer floor of ($1,000)/M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shift factor difference between most effective zones approximately 0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,500 x 0.40 = $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-wide offer cap changed to $1,500/MWh on March 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-wide offer cap will change to $2,250/MWh on March 1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floor remains at ($1,000)/MWh (Protocols Section 6.1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zonal congestion, with the current CSC Shadow Price cap of $2,5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&gt; ~$1,000/MWh will be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al prices will be limited to approximately $1,000/MWh, even if all available energy is exhausted in the most effective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CSC Shadow Price cap to $5,600/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cap increase from $1,000 to $2,250 (2.25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ow price cap increase from $2,500 to $5,600 (~2.25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price administration to limit any negative zonal price to a minimum of ($1,000)/M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 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manual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i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C shadow price will also be re-determined administratively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 p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price administrat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9:55:13Z</dcterms:created>
  <dc:creator>dan</dc:creator>
  <dc:description/>
  <dc:language>en-US</dc:language>
  <cp:lastModifiedBy>Young</cp:lastModifiedBy>
  <dcterms:modified xsi:type="dcterms:W3CDTF">2008-01-08T20:51:54Z</dcterms:modified>
  <cp:revision>3</cp:revision>
  <dc:subject/>
  <dc:title>Alignment of CSC Shadow Price Caps with New System-wide Offer Caps </dc:title>
</cp:coreProperties>
</file>